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804-8742-48D4-A565-93177B92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CDB-384E-4991-85BC-34FE6E52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CCC-A467-4E6E-BFBC-22EB97D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93E-E9D9-4DA9-9976-874E7DC9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D349-D2DC-4CB0-8134-6F0F96C5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E3D-F2B7-470B-B747-92E7E39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98F-BEBE-484E-9474-6890460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88C5-25BA-470B-AF4B-3D46E71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730F-C08D-42D1-B0A4-E5B033C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0A76-82C8-4000-887F-E7D092B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74B9-C568-4480-A4EE-5565BF48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B54-EC59-4F6E-9B69-E260416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4CD1-BA07-464F-9D1F-C37FD3DD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7AD-33B1-45D1-8024-D077DA2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0112-5E82-4E66-AE08-C209188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FB1C-DAAE-4332-A4C5-45F9CBBF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E39A-A076-4AEF-B6B3-A066D599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D1FA-DDF8-4217-81CB-F4F836E7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A16F-BA38-4519-865A-57EAACE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0FCC-C4E5-4448-A4BE-9FF0433A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9670-ED04-4EB1-9C50-7AF527E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6527-7076-4AAE-9B85-75BCD34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32B-7D14-4439-A2F9-70AB3A80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6C69-F675-431D-8FBA-8297F7E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E6F8-42E5-4C78-BD86-FC278C0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8F1D-180F-4363-A0AC-EE2CB76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E35F-25C9-4F48-A5B0-D61FECB6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FFEA-6BB7-4FFC-A98F-21CD6A4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5ADC-C68A-4628-B96A-E2E6A65F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0CD2-ADFD-4950-AFE0-F56E52CF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D23-6CA2-4D71-A928-2809C4E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FBC-8E03-4A89-9FFB-3982591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DBC-59D5-439C-B0F8-B3B18059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CB-2137-4533-8F6E-CB81278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825-349E-4B2A-B4AC-8CCF644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552-7389-46A8-9B98-5F40240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7C2D-F562-4FBB-991A-839F8EC27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58E-DB44-406F-B6B9-65F2DBAD8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BFCB-B974-4FC0-9E9E-E970C4390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eb2.uvcs.uvic.ca/elc/studyzone/330/grammar/pres1.htm" TargetMode="External"/><Relationship Id="rId2" Type="http://schemas.openxmlformats.org/officeDocument/2006/relationships/hyperlink" Target="http://ww2.college-em.qc.ca/prof/epritchard/trivps1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2.college-em.qc.ca/prof/epritchard/mcsimp1a.htm" TargetMode="External"/><Relationship Id="rId2" Type="http://schemas.openxmlformats.org/officeDocument/2006/relationships/hyperlink" Target="http://ww2.college-em.qc.ca/prof/epritchard/199pcquz.htm" TargetMode="External"/><Relationship Id="rId3" Type="http://schemas.openxmlformats.org/officeDocument/2006/relationships/hyperlink" Target="http://ww2.college-em.qc.ca/prof/epritchard/billan2.htm" TargetMode="External"/><Relationship Id="rId4" Type="http://schemas.openxmlformats.org/officeDocument/2006/relationships/hyperlink" Target="http://ww2.college-em.qc.ca/prof/epritchard/trivpsqu.htm" TargetMode="External"/><Relationship Id="rId5" Type="http://schemas.openxmlformats.org/officeDocument/2006/relationships/hyperlink" Target="http://web2.uvcs.uvic.ca/elc/studyzone/330/grammar/presnq1.htm" TargetMode="External"/><Relationship Id="rId6" Type="http://schemas.openxmlformats.org/officeDocument/2006/relationships/hyperlink" Target="http://web2.uvcs.uvic.ca/elc/studyzone/330/grammar/presnq2.htm" TargetMode="External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Presen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by Kristi Re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714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x / repair plumbing, applia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nage / supervi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781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a computer / progra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2628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swer telephone, type, file, take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231444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rve, help custom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e Present Tense:  U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day activities:  What do you do every 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s, ha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tru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earch, do experi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2629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sh dish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9908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ean, wa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l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908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 (my friend, the boss, a co-work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 +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, works, talks, does, spea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lling rules: Third person verbs in simple present te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 verbs ending in –ch, -sh, -ss, and –x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2:  final consonant + y -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 y + 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50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0384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hat do these people d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600200" cy="117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0" y="5410080"/>
            <a:ext cx="472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79250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ractic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ractic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and answer these questions with a classm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et up in the morning?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I get up a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o to bed?  How many hours do you sleep per n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at breakfast?  What do you usually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30862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28600" y="51055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like to do in your fre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ercise?  What exercises do you do or what sports do you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048120" y="28195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hores do you do in your househol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do at your jo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86728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362320" y="32004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114800" y="3191040"/>
            <a:ext cx="1638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ind and correct the mistakes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’m work for a very good company, and I also student at MiraCosta Colle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anager talkes with all employees once a we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anager and I has a meeting to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mpany’s profits looks g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echnician fixxes any computer problems we ha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erybody working hard every day, and company morale is hig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eople in this company really likes working 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-worker talks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/ you / we /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ral subject (the workers, the peopl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 not (don’t) +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es not (doesn’t) + verb (no –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co-worker talks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95480" y="283356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I / you / we / they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/ she / it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852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Quiz:  Questions and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ll + Triv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Type the negatives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imple Present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Type the negatives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Type yes/no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193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write a para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structor will show you a picture.  Write a paragraph of 6 – 10 sentences describing the actions of the people in the pictur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imple present tense verbs (affirmative and negativ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topic sentence and concl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848720" cy="310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7724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 / style hai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52680" y="245736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raw / des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19520" y="24670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0400" y="261000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26:10Z</dcterms:created>
  <dc:creator>Kristi Reyes</dc:creator>
  <dc:description/>
  <dc:language>en-US</dc:language>
  <cp:lastModifiedBy>Master_Image</cp:lastModifiedBy>
  <dcterms:modified xsi:type="dcterms:W3CDTF">2006-08-21T21:57:53Z</dcterms:modified>
  <cp:revision>4</cp:revision>
  <dc:subject/>
  <dc:title>Simple Present Tense</dc:title>
</cp:coreProperties>
</file>